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FF8-CC3C-494E-AB86-898EB385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D8A-526F-4A63-BE65-E1B6D67D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307-0234-4171-AC3F-40E6BCC1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FD8-C966-4F47-A73F-60A83055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2F7-C42C-4B50-AB42-135C2187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685-999A-4AF3-A4A6-422E244C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0B3-7962-49AB-92D5-5440D6AF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A6B-863B-4358-93EE-EED2510F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4D2-D44F-4924-BA99-A45BFB8A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562-9109-444B-B973-7ABB3F4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711-D7A6-45FC-8640-88428CCB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BFE-0AA1-4C03-8CEB-70FE4083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6A4B-0D44-452E-B516-54482470A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slide" Target=""/><Relationship Id="rId6" Type="http://schemas.openxmlformats.org/officeDocument/2006/relationships/slide" Target="slide10.xml"/><Relationship Id="rId7" Type="http://schemas.openxmlformats.org/officeDocument/2006/relationships/slide" Target=""/><Relationship Id="rId8" Type="http://schemas.openxmlformats.org/officeDocument/2006/relationships/slide" Target="slide15.xml"/><Relationship Id="rId9" Type="http://schemas.openxmlformats.org/officeDocument/2006/relationships/slide" Target=""/><Relationship Id="rId10" Type="http://schemas.openxmlformats.org/officeDocument/2006/relationships/slide" Target="slide16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8.xml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slide11.xml"/><Relationship Id="rId18" Type="http://schemas.openxmlformats.org/officeDocument/2006/relationships/slide" Target=""/><Relationship Id="rId19" Type="http://schemas.openxmlformats.org/officeDocument/2006/relationships/slide" Target="slide12.xml"/><Relationship Id="rId20" Type="http://schemas.openxmlformats.org/officeDocument/2006/relationships/slide" Target=""/><Relationship Id="rId21" Type="http://schemas.openxmlformats.org/officeDocument/2006/relationships/slide" Target="slide13.xml"/><Relationship Id="rId22" Type="http://schemas.openxmlformats.org/officeDocument/2006/relationships/slide" Target=""/><Relationship Id="rId23" Type="http://schemas.openxmlformats.org/officeDocument/2006/relationships/slide" Target="slide9.xml"/><Relationship Id="rId24" Type="http://schemas.openxmlformats.org/officeDocument/2006/relationships/slide" Target=""/><Relationship Id="rId25" Type="http://schemas.openxmlformats.org/officeDocument/2006/relationships/slide" Target="slide17.xml"/><Relationship Id="rId26" Type="http://schemas.openxmlformats.org/officeDocument/2006/relationships/slide" Target=""/><Relationship Id="rId27" Type="http://schemas.openxmlformats.org/officeDocument/2006/relationships/slide" Target="slide7.xml"/><Relationship Id="rId28" Type="http://schemas.openxmlformats.org/officeDocument/2006/relationships/slide" Target=""/><Relationship Id="rId29" Type="http://schemas.openxmlformats.org/officeDocument/2006/relationships/slide" Target="slide6.xml"/><Relationship Id="rId30" Type="http://schemas.openxmlformats.org/officeDocument/2006/relationships/slide" Target=""/><Relationship Id="rId31" Type="http://schemas.openxmlformats.org/officeDocument/2006/relationships/slide" Target="slide19.xml"/><Relationship Id="rId32" Type="http://schemas.openxmlformats.org/officeDocument/2006/relationships/slide" Target=""/><Relationship Id="rId33" Type="http://schemas.openxmlformats.org/officeDocument/2006/relationships/slide" Target="slide20.xml"/><Relationship Id="rId34" Type="http://schemas.openxmlformats.org/officeDocument/2006/relationships/slide" Target=""/><Relationship Id="rId35" Type="http://schemas.openxmlformats.org/officeDocument/2006/relationships/slide" Target="slide21.xml"/><Relationship Id="rId36" Type="http://schemas.openxmlformats.org/officeDocument/2006/relationships/slide" Target=""/><Relationship Id="rId37" Type="http://schemas.openxmlformats.org/officeDocument/2006/relationships/slide" Target="slide22.xml"/><Relationship Id="rId38" Type="http://schemas.openxmlformats.org/officeDocument/2006/relationships/slide" Target="slide3.xml"/><Relationship Id="rId39" Type="http://schemas.openxmlformats.org/officeDocument/2006/relationships/slide" Target=""/><Relationship Id="rId40" Type="http://schemas.openxmlformats.org/officeDocument/2006/relationships/slide" Target="slide4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901880" y="1901880"/>
            <a:ext cx="5340240" cy="159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jeopardy-pi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438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Mrs. Gol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eopardy - Full Version 1985.mp3" descr=""/>
          <p:cNvPicPr/>
          <p:nvPr/>
        </p:nvPicPr>
        <p:blipFill>
          <a:blip r:embed="rId3"/>
          <a:stretch/>
        </p:blipFill>
        <p:spPr>
          <a:xfrm>
            <a:off x="8839080" y="0"/>
            <a:ext cx="282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9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49995"/>
              <a:gd name="adj2" fmla="val 2338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discussed laissez-f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cs and provided a b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capitalism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ealth of Nations, Adam Sm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796"/>
              <a:gd name="adj2" fmla="val 237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gram proposed control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porations, consumer protection,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the environ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quare Deal (Teddy Roosevelt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914400" y="990720"/>
            <a:ext cx="7162920" cy="4038480"/>
          </a:xfrm>
          <a:prstGeom prst="wedgeRectCallout">
            <a:avLst>
              <a:gd name="adj1" fmla="val -49995"/>
              <a:gd name="adj2" fmla="val 244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man is known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llar Diplomac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Ta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49995"/>
              <a:gd name="adj2" fmla="val 247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was designed to bl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sm in the Middle Eas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Eisenhower Doctr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50189"/>
              <a:gd name="adj2" fmla="val 2408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howed grim pictures of N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rk City tenements,  l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using reform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ow the Other Half Lives, Jacob Ri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189"/>
              <a:gd name="adj2" fmla="val 2268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gram paid spe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ention to education and civ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ghts, PROPOSED Medicar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vil Rights Act and ma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i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ew Frontier (JFK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95"/>
              <a:gd name="adj2" fmla="val 2688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man is primarily known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endleton Ac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Chester Arth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95"/>
              <a:gd name="adj2" fmla="val 29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gave Hayes the presid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removed troops from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, ending Reconstru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ompromise of 187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49995"/>
              <a:gd name="adj2" fmla="val 2828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argued that the rich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ligated to spend some of the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alth to help the poo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ospel of Wealth, Andrew Carneg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49796"/>
              <a:gd name="adj2" fmla="val 2234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gram paid special att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economic security, ra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nimum wage, increa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mployment and expa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al securi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air Deal (Truman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5">
            <a:hlinkClick r:id="rId1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3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8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228600" y="0"/>
            <a:ext cx="1905120" cy="5806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idential Progra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362320" y="36360"/>
            <a:ext cx="1828800" cy="3988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id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15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8">
            <a:hlinkClick r:id="rId16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30">
            <a:hlinkClick r:id="rId18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1">
            <a:hlinkClick r:id="rId20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2">
            <a:hlinkClick r:id="rId22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3">
            <a:hlinkClick r:id="rId2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5">
            <a:hlinkClick r:id="rId26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6">
            <a:hlinkClick r:id="rId28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7">
            <a:hlinkClick r:id="rId30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8">
            <a:hlinkClick r:id="rId32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9">
            <a:hlinkClick r:id="rId3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0">
            <a:hlinkClick r:id="rId36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6"/>
          <p:cNvSpPr/>
          <p:nvPr/>
        </p:nvSpPr>
        <p:spPr>
          <a:xfrm>
            <a:off x="609480" y="13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38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4648320" y="36360"/>
            <a:ext cx="2057400" cy="70380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trines &amp; Comprom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0" y="36360"/>
            <a:ext cx="2057400" cy="398880"/>
          </a:xfrm>
          <a:prstGeom prst="rect">
            <a:avLst/>
          </a:prstGeom>
          <a:solidFill>
            <a:srgbClr val="ffff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8">
            <a:hlinkClick r:id="rId39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50189"/>
              <a:gd name="adj2" fmla="val 2199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man is known for 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issez-fare presidency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llogg-Briand Pa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Coolid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95"/>
              <a:gd name="adj2" fmla="val 209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redefined US contai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licy &amp; stated that US w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ntain collective secur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economic and diplomatic me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Nixon Doctr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95"/>
              <a:gd name="adj2" fmla="val 2094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detailed the government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atment of Native America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Century of Dishonor, Helen Hunt Jack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990720" y="914400"/>
            <a:ext cx="7543800" cy="4038480"/>
          </a:xfrm>
          <a:prstGeom prst="wedgeRectCallout">
            <a:avLst>
              <a:gd name="adj1" fmla="val -18671"/>
              <a:gd name="adj2" fmla="val 4994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gram provided relief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unemployed, recovery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pression, and reform of econom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New Deal (FDR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995"/>
              <a:gd name="adj2" fmla="val 2024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ident is most well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anifest Destiny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xican-American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Pol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796"/>
              <a:gd name="adj2" fmla="val 22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hibited slavery nort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36’30 paralle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issouri Compromi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796"/>
              <a:gd name="adj2" fmla="val 2059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exposed the evils of meat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cking plan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Jungle, Upton Sincl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95"/>
              <a:gd name="adj2" fmla="val 23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rogram paid spe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ention to poverty, civil right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lth care and educatio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Great Society (LBJ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95"/>
              <a:gd name="adj2" fmla="val 2548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man is known for his poli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Reconstruction; fir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sident impeach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Andrew John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3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95"/>
              <a:gd name="adj2" fmla="val 19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admitted California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Union, enacted a stro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gitive Slave law, e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lave trade in DC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ablished pop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vereignty in New Mexico &amp; Ut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ompromise of 185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22:42:49Z</dcterms:created>
  <dc:creator>Jerry Myers</dc:creator>
  <dc:description>Created by Jerry Myers is 1998 for a class.</dc:description>
  <dc:language>en-US</dc:language>
  <cp:lastModifiedBy>emily.johnson</cp:lastModifiedBy>
  <cp:lastPrinted>2001-01-31T16:21:13Z</cp:lastPrinted>
  <dcterms:modified xsi:type="dcterms:W3CDTF">2013-05-14T13:00:54Z</dcterms:modified>
  <cp:revision>104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